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7F16-C857-402A-BE83-766122095D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3F7-B805-474D-9456-C95D1131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EA6-35F5-4216-A6F3-5A0771E3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5EF-E23A-463E-9962-D75BCA6C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2AD-63D1-4388-BF17-94081489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9B0-562C-4B4A-B06C-FBA79046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350-B378-4185-9B86-9BA7BC9A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0A3-F50D-4027-ADA2-75C7BAA2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914-BD68-4D1D-AB7C-38CB7C9A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FBE-6772-41ED-8B95-D2A0F26D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30E-0BFA-413A-9D50-5F7B1C34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B0F-7C19-4CA6-A5C9-7411C3E8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EB5-3CFF-4E79-95CA-2646209A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0FE0-F375-4FD6-BC48-777C3FC7F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the-scientist.com/yr2001/feb/research_010219.html" TargetMode="External"/><Relationship Id="rId3" Type="http://schemas.openxmlformats.org/officeDocument/2006/relationships/hyperlink" Target="http://www.enn.com/news/enn-stories/1999/06/062499/seaotter_3930.asp" TargetMode="External"/><Relationship Id="rId4" Type="http://schemas.openxmlformats.org/officeDocument/2006/relationships/hyperlink" Target="http://www.defenders.org/wildlife/new/marine/otters/images/dowil_sea-otter_even-more-final.html" TargetMode="External"/><Relationship Id="rId5" Type="http://schemas.openxmlformats.org/officeDocument/2006/relationships/hyperlink" Target="http://www.discovery.com/stories/nature/otters/otters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609480"/>
            <a:ext cx="3810240" cy="3200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a Otters: Adorable but Threate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tinel Species at Ris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ue to Pollution and Over-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962520" cy="3081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51" name="Text Box 5"/>
          <p:cNvSpPr/>
          <p:nvPr/>
        </p:nvSpPr>
        <p:spPr>
          <a:xfrm>
            <a:off x="114300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Jim Fidd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bury HS &amp; PNWBOCES, Yorktown, 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429000" cy="318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50028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990720" y="1752480"/>
            <a:ext cx="28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lluted Food--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at hearty &amp; d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396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00400" cy="2600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ters &amp; Disease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9903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31435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114800" cy="32922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4191120" cy="29797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590920" cy="21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115400" cy="5494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13" name="Text Box 4"/>
          <p:cNvSpPr/>
          <p:nvPr/>
        </p:nvSpPr>
        <p:spPr>
          <a:xfrm>
            <a:off x="2036880" y="59850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edators: Part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shark-teeth-CBU2"/>
          <p:cNvPicPr/>
          <p:nvPr/>
        </p:nvPicPr>
        <p:blipFill>
          <a:blip r:embed="rId1"/>
          <a:stretch/>
        </p:blipFill>
        <p:spPr>
          <a:xfrm>
            <a:off x="914400" y="1463760"/>
            <a:ext cx="2895480" cy="2316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124080" cy="20210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her Otter Problems &amp; Per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64788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25751" dir="2700000" blurRad="0" rotWithShape="0">
              <a:srgbClr val="ff6600"/>
            </a:outerShdw>
          </a:effectLst>
        </p:spPr>
      </p:pic>
      <p:sp>
        <p:nvSpPr>
          <p:cNvPr id="123" name="Rectangle 6"/>
          <p:cNvSpPr/>
          <p:nvPr/>
        </p:nvSpPr>
        <p:spPr>
          <a:xfrm>
            <a:off x="4572000" y="2133720"/>
            <a:ext cx="3962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: 17 to 38 % foraging - 50 to 68 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chitka Island, AK: 51 to 58 % time foraging - 32 to 34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72000" y="44197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0880" y="48006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429000" cy="24004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6400800" y="4983120"/>
            <a:ext cx="2057400" cy="1646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 Can Fix This: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ays to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9140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4824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311472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514600" cy="198108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3276720" cy="1981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2909880" cy="20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2590920" y="2971800"/>
            <a:ext cx="1904760" cy="2143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467080" cy="1708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5943600" y="3848040"/>
            <a:ext cx="2847960" cy="3009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0" descr=""/>
          <p:cNvPicPr/>
          <p:nvPr/>
        </p:nvPicPr>
        <p:blipFill>
          <a:blip r:embed="rId1">
            <a:lum bright="70000" contrast="-70000"/>
          </a:blip>
          <a:srcRect l="0" t="0" r="17713" b="0"/>
          <a:stretch/>
        </p:blipFill>
        <p:spPr>
          <a:xfrm>
            <a:off x="3124080" y="1568520"/>
            <a:ext cx="6019920" cy="4964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the-scientist.com/yr2001/feb/research_010219.h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44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89680" y="1995480"/>
            <a:ext cx="801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98560" y="23623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9480" y="2757600"/>
            <a:ext cx="778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defenders.org/wildlife/new/marine/otters/images/dowil_sea-otter_even-more-final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83080" y="3443400"/>
            <a:ext cx="74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5080" y="3747960"/>
            <a:ext cx="6557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discovery.com/stories/nature/otters/otters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98200" y="405288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50520" y="4357800"/>
            <a:ext cx="74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Zoobooks: Sea Otter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Wildlife Education, Ltd. 0-937934-70-4 c.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73080" y="47307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80760" y="5029200"/>
            <a:ext cx="285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ttp://www.mbayaq.or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896760" y="54100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68160" y="5805360"/>
            <a:ext cx="154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121120" y="5851440"/>
            <a:ext cx="55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7" descr=""/>
          <p:cNvPicPr/>
          <p:nvPr/>
        </p:nvPicPr>
        <p:blipFill>
          <a:blip r:embed="rId1">
            <a:lum bright="70000" contrast="-70000"/>
          </a:blip>
          <a:srcRect l="0" t="0" r="13252" b="0"/>
          <a:stretch/>
        </p:blipFill>
        <p:spPr>
          <a:xfrm>
            <a:off x="3429000" y="2362320"/>
            <a:ext cx="5486400" cy="4294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4400" y="129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" y="1600200"/>
            <a:ext cx="815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560" y="198108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90120" y="2259000"/>
            <a:ext cx="404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899640" y="2590920"/>
            <a:ext cx="66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78600" y="289548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899640" y="32767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4640" y="358128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914400" y="38862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need your help!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 &amp; take c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otters"/>
          <p:cNvPicPr/>
          <p:nvPr/>
        </p:nvPicPr>
        <p:blipFill>
          <a:blip r:embed="rId1"/>
          <a:stretch/>
        </p:blipFill>
        <p:spPr>
          <a:xfrm>
            <a:off x="914400" y="1981080"/>
            <a:ext cx="763920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1344600" cy="1447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73" name="Text Box 5"/>
          <p:cNvSpPr/>
          <p:nvPr/>
        </p:nvSpPr>
        <p:spPr>
          <a:xfrm>
            <a:off x="4419720" y="2286000"/>
            <a:ext cx="3581280" cy="581400"/>
          </a:xfrm>
          <a:prstGeom prst="rect">
            <a:avLst/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--the Quiz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reats to Sea Otter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30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047760" cy="2286000"/>
          </a:xfrm>
          <a:prstGeom prst="rect">
            <a:avLst/>
          </a:prstGeom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6" name="Picture 1031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71800" cy="211320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7" name="Picture 1033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3333600" cy="166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914400" y="4572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 Screen Quiz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2041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5800" y="1066680"/>
            <a:ext cx="5334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Name &amp; describe at least three things making sea otters si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ist &amp; describe two ways sea otters keep w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Describe at least two other adaptations of the sea otter that enable it to live successfully in the oce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hat is the sea otter’s role in the ecology of the kelp fore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ree reasons people should concern themselves with the sea otter. (one hint: define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tinel spec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72200" y="3048120"/>
            <a:ext cx="2590920" cy="303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095880" y="2438280"/>
            <a:ext cx="2819520" cy="4597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Peeking, Now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600"/>
            <a:ext cx="457200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685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0" descr=""/>
          <p:cNvPicPr/>
          <p:nvPr/>
        </p:nvPicPr>
        <p:blipFill>
          <a:blip r:embed="rId1"/>
          <a:stretch/>
        </p:blipFill>
        <p:spPr>
          <a:xfrm>
            <a:off x="380880" y="581040"/>
            <a:ext cx="3124440" cy="26193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62" name="Picture 103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162600" cy="23623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2400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89556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22440" y="1143000"/>
            <a:ext cx="42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971800" cy="17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790720" cy="23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90720" cy="22096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29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07648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8" name="Picture 1030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263232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9" name="Picture 1031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667240" cy="26287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80" name="Rectangle 1033"/>
          <p:cNvSpPr/>
          <p:nvPr/>
        </p:nvSpPr>
        <p:spPr>
          <a:xfrm>
            <a:off x="3809880" y="3886200"/>
            <a:ext cx="4953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324240" y="304920"/>
            <a:ext cx="545796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259092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86380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100320" y="380880"/>
            <a:ext cx="5605560" cy="6153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73996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47960" cy="31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8600" y="3476520"/>
            <a:ext cx="54864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914920" cy="27082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6:51:36Z</dcterms:created>
  <dc:creator>Technology Services</dc:creator>
  <dc:description/>
  <dc:language>en-US</dc:language>
  <cp:lastModifiedBy>LEGION2</cp:lastModifiedBy>
  <dcterms:modified xsi:type="dcterms:W3CDTF">2016-01-13T10:06:24Z</dcterms:modified>
  <cp:revision>69</cp:revision>
  <dc:subject/>
  <dc:title>Sea Otters: Adorable but Threatened</dc:title>
</cp:coreProperties>
</file>